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ECC-6460-4113-90FF-C83FAFE8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F94-072A-4A76-991F-BE8D597D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2A8-0EBD-4F88-A374-705C5B9C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990-867A-477C-8F74-6384BDE2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615-3F68-4522-BDA6-0DCEB43D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A183-C04F-4406-9B41-AB0A069D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418-9869-413C-BC12-CEB5FFE8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B668-3C79-4661-B1B2-7998C34A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DF9-5297-4DEF-A6C7-DB654CB6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31C-2A51-46F6-9BD5-DB37B453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CBA-3661-4265-914A-3F085504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4892-817E-4953-8520-0D32E246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1E31-6B16-48DF-8A3C-5217432D0B0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711160" y="59230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5.12.1867 – 12.05.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Piłsudski"/>
          <p:cNvPicPr/>
          <p:nvPr/>
        </p:nvPicPr>
        <p:blipFill>
          <a:blip r:embed="rId1"/>
          <a:stretch/>
        </p:blipFill>
        <p:spPr>
          <a:xfrm>
            <a:off x="2484360" y="333360"/>
            <a:ext cx="3940200" cy="5465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2798640" y="64468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6:36:41Z</dcterms:created>
  <dc:creator>IB</dc:creator>
  <dc:description/>
  <dc:language>en-US</dc:language>
  <cp:lastModifiedBy>rena</cp:lastModifiedBy>
  <dcterms:modified xsi:type="dcterms:W3CDTF">2013-03-05T18:40:07Z</dcterms:modified>
  <cp:revision>4</cp:revision>
  <dc:subject/>
  <dc:title>Slajd 1</dc:title>
</cp:coreProperties>
</file>